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08049E-F62A-45BF-9E4E-C2DB706CDF8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5E7-7E70-4887-98BD-DAAA734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77A-24D3-480C-A1BF-5DACD1BA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47D-21F1-4F6C-80B7-D0F7799D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F36-D51A-4B33-AD7D-05DA8EB8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197-088D-4020-948C-BE3BE9F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F78-F8D9-415D-9901-6FFF5326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FB7-AC4F-49E6-94D7-E283F000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A7A-5637-4290-9B68-45DCDD2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1CA-6A59-4A26-AAAD-29DE17BA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82E-ED1F-4E1F-874D-5361A88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586-6008-4065-9A8F-5CE7517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7F5-FE5B-4690-B995-C72675C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CECF6D-C770-4C4D-8F8C-FB9C37F7424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ranjainfo.wikispaces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1247760" cy="35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68360" y="765000"/>
            <a:ext cx="384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Tutorial de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9600" y="1987200"/>
            <a:ext cx="669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menzar a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Entra en la Wiki del curso:</a:t>
            </a: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ea typeface="바탕"/>
                <a:hlinkClick r:id="rId2"/>
              </a:rPr>
              <a:t>http://naranjainfo.wikispaces.co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55640" y="2700360"/>
            <a:ext cx="62643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ándida Gallard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1720" y="615600"/>
            <a:ext cx="41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Identifícate haciendo clic e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ig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303640" cy="180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761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20" y="2906280"/>
            <a:ext cx="83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Abre la página adecuada. Puedes acceder desde el menú de naveg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79600" y="3419640"/>
            <a:ext cx="33796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1095480" cy="43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400" y="11952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d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52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80" y="62064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. Ahora ab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 pág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82868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8323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430560" cy="4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27640" y="3141720"/>
            <a:ext cx="237960" cy="15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82760" cy="43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7720" y="471240"/>
            <a:ext cx="47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Te aparecerá es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barra de 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92436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87440" y="2058480"/>
            <a:ext cx="686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 vamos a utilizarlo para crear enlaces con páginas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s a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texto que aparecerá resaltado co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l lin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1800" y="3278160"/>
            <a:ext cx="108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91760" y="4003560"/>
            <a:ext cx="69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iminar un enlac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Selecciona el texto resaltado y haz clic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7960" y="3357720"/>
            <a:ext cx="21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roduce la UR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6400" cy="47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287640" cy="2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800440" cy="3213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04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400" y="338040"/>
            <a:ext cx="797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imáge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Las imágenes que vamos a insertar pueden proc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dos si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de nuestro ordenado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바탕"/>
              </a:rPr>
              <a:t>:        se te abrirá una ventana como la que ap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바탕"/>
              </a:rPr>
              <a:t>en la imagen inf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960920"/>
            <a:ext cx="8478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eleccionar una imagen de tu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la imagen y 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i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n la venta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parec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a dirección del arch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e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Uploa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ubir la imagen y guardarla en tu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doble clic sobre la imagen que deseas insertar en el Wik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484200"/>
            <a:ext cx="8064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algún sitio we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sta vez se trata de una imagen que se encuentra en algún otro servidor y de la que tenemos que copiar su dirección d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ara abrir la ventana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sertar imágenes o arch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358920" cy="27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1555920"/>
            <a:ext cx="7993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crib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ción UR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de la imagen en la caja de text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 un doble clic sobre la imagen la insertarás en e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ómo obtener la dirección URL de un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y algunos sitios de donde obtener imágenes, por ejemplo: Imágenes de Goo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encima de la imagen el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e el menú con  el botón derecho del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 la ruta de l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nuestra Wiki, en la caja de texto inferior haz clic sobre el botón derecho del ratón y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960" cy="41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952720" cy="92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3573360"/>
            <a:ext cx="5400360" cy="308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47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756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un video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s pasos a seguir será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바탕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vídeo de cualquiera de los servicios de Internet como por ejemplo: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 el código html ,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de la caj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, que se encuentra a la derecha del video haciendo clic encima de él y con el botón derecho del ratón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798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la Wiki, haz clic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720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Other 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que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do en el cuad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text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9600" y="65530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43:13Z</dcterms:created>
  <dc:creator>Candi</dc:creator>
  <dc:description/>
  <dc:language>en-US</dc:language>
  <cp:lastModifiedBy>Candi</cp:lastModifiedBy>
  <dcterms:modified xsi:type="dcterms:W3CDTF">2009-02-11T21:46:04Z</dcterms:modified>
  <cp:revision>9</cp:revision>
  <dc:subject/>
  <dc:title>Diapositiva 1</dc:title>
</cp:coreProperties>
</file>